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C39BA-2052-44B3-BA81-FB609E6D30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81A89-B172-4BD0-8CAE-AEFF5F49A9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61B49-E91F-471B-804B-34E24DF624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04159-5A05-4C84-8D88-BC1BC36001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5A32C-98E3-4698-A38E-CC58EE69F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D6AF8-E70F-4B2F-8CBC-2CD45A4DF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920D2-C0EE-4065-BED0-09A284F819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F9CAC-E0F6-4D1F-AD34-C9045AF49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1F131-4CF6-4D44-B292-46CCCCD6D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152B6-3DB1-4931-AAC7-768C69ED7B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D4CA6-EDAD-49FE-9E26-149DBFB2C3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7F9A7-7918-40CB-82B4-DAEA07EF03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E369E-F7A1-4CCC-B299-1274164FB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D1B39-28B3-49B6-99CC-33D8B3858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2D519-C96E-46AC-B313-257A97B9D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BE67B-7F07-41B0-9344-517FCAEA3F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01203-C0BC-4D54-860C-4C5DC8A4E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BCC7B-AB95-4E15-83CB-8C28F7CF3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FF0A6-6ECB-4A33-A02F-138CE4C44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32B65-DF76-46C7-B48C-C5B0F8B858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A255E-57AD-4565-9996-25AE2F924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4FE9C-C6E0-4540-9EF9-BA4F06EDB9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CE40B-AB0E-4A59-BFCD-F712D0372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EAEA9-7C6E-445F-8394-BCA489AE3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FAF5A-2EF7-4336-AFAD-F6FD434F0D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27D2-161B-48F2-AE8D-A22859AF9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AD4F-4512-4EFC-A3A9-BDAB02A8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57B7-2888-440C-8421-B68B39033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5CA5-E422-427A-9564-28A7776DE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AAE7-2B70-4A2D-936B-E303FD664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3074-DED1-4844-ACBA-C91E10080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90C8-3CD4-4A87-B5DA-3061CF66E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FFBF-7CEC-49D6-BCD8-D11B34F35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EB62-69DF-4CC3-A7EB-9EB4DE577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D98E-12EE-44EE-A41B-2329FBEE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73A3-8B2D-4F0D-B682-95DA1F56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4271-5B73-4BAD-A5F9-05D4E724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DFA99-C607-4BE5-B315-DDA26422A4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Plutonium_ring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en.wikipedia.org/wiki/Image:Plutonium_ring.jpg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Chapter 20</a:t>
            </a:r>
            <a:br>
              <a:rPr sz="3600"/>
            </a:b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Nuclear Energy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ow much do we us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.S. - about 15 - 19% of our energy is nucle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ance - about 78 %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 400 nuclear powerplants worldw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4 in the U.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new plants, just expanding output of existing o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762120" y="380880"/>
            <a:ext cx="77724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processing spent fuel for breeder reactors made pure plutonium along the way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ig hazard to monitor to make sure it never gets in wrong ha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7" descr="A ring of weapons-grade electrorefined plutonium, with 99.96% purity. This 5.3 kg ring is enough plutonium for use in a modern nuclear weapon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3886200"/>
            <a:ext cx="2857680" cy="27147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8"/>
          <p:cNvSpPr/>
          <p:nvPr/>
        </p:nvSpPr>
        <p:spPr>
          <a:xfrm>
            <a:off x="3809880" y="529920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4114800" y="3886200"/>
            <a:ext cx="48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3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5.3 kg ring is enough plutonium for use in a modern nuclear weap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uclear Non Proliferation Treaty of 196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ys countries wanting nuclear power must sign a treaty to not make nuclear weapons.  Lacks enforcement, not effect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77 Carter banned civilian reprocessing of nuclear spent fuels in US so no Pu could be recovered due to terrorist fea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81 President Reagan lifted the ban and urged reprocess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certainty of future gov. policy and huge expense has halted effor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civilian reprocessing in US no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urope: has been for ye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ally, fast reactors could run of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mal reactor waste till all used up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d also run off weapons grade Pu to get rid of i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n can run off its own spent fu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5" descr="RadiationSymbol"/>
          <p:cNvPicPr/>
          <p:nvPr/>
        </p:nvPicPr>
        <p:blipFill>
          <a:blip r:embed="rId1"/>
          <a:stretch/>
        </p:blipFill>
        <p:spPr>
          <a:xfrm>
            <a:off x="6629400" y="4800600"/>
            <a:ext cx="191448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ds and R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440" y="1218960"/>
            <a:ext cx="80773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Calibri"/>
              </a:rPr>
              <a:t>Rad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mount of radiation deposited in a gram of tissu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Calibri"/>
              </a:rPr>
              <a:t>Re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the biological effect of that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alth Eff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cers/tum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r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ye dam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tus dam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ain damage…many m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used by cell and tissue damage/death and DNA mut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do we do with Radioactive Wast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Rocket it to the sun?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hoot it to the moon? (Expensive and hope no accident in the take off!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Deep sea / ocean floor storage?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Hope it doesn’t leak, violation of intl. treati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hip out of country?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ethics, terrorism, transportation accidents…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Recycle using reprocessing?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up and running y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ast reactors to be built over existing, aging thermal reacto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out 15 years away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uclear Waste Policy Act of 198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mendment in 1987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ay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 level waste must be disposed of in a deep underground geologic waste reposito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ght now its in 126 separate sites around the coun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052"/>
          <p:cNvSpPr/>
          <p:nvPr/>
        </p:nvSpPr>
        <p:spPr>
          <a:xfrm>
            <a:off x="609480" y="304920"/>
            <a:ext cx="8153640" cy="27432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Low-level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waste can remain on site until decay is complete and then ship off to hazardous waste fac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 can be buried in geologically safe, near surface si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Of the 6 low level burial sites, several are leaking and polluting groundwa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 have been forced to cl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ly 2 remain open tod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new one is proposed for So. Cal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world_map"/>
          <p:cNvPicPr/>
          <p:nvPr/>
        </p:nvPicPr>
        <p:blipFill>
          <a:blip r:embed="rId1"/>
          <a:stretch/>
        </p:blipFill>
        <p:spPr>
          <a:xfrm>
            <a:off x="380880" y="990720"/>
            <a:ext cx="8305920" cy="54100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838080" y="45720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World’s Nuclear Power Pl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gh Level Was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ry very deep (at least 2000 ft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o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lt beds prefer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ble geologic ar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w rainf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ttle or no groundwater in ar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OOOOOOOOOOOOOONG TIM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aste Isolation Pilot Plant (WIPP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1600200" y="1905120"/>
            <a:ext cx="64008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150 ft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0 ft thick salt b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ble for 200 million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ver next 35 yrs expected to receive 37,000 ship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ste estimated to be radioactive for 250,000 y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about the high level Radioactive Waste from Commercial Reactors?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Yucca Mounta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Yucca"/>
          <p:cNvPicPr/>
          <p:nvPr/>
        </p:nvPicPr>
        <p:blipFill>
          <a:blip r:embed="rId2"/>
          <a:stretch/>
        </p:blipFill>
        <p:spPr>
          <a:xfrm>
            <a:off x="2895480" y="2895480"/>
            <a:ext cx="4191120" cy="3657600"/>
          </a:xfrm>
          <a:prstGeom prst="rect">
            <a:avLst/>
          </a:prstGeom>
          <a:ln w="0">
            <a:noFill/>
          </a:ln>
        </p:spPr>
      </p:pic>
      <p:sp>
        <p:nvSpPr>
          <p:cNvPr id="105" name="Line 5"/>
          <p:cNvSpPr/>
          <p:nvPr/>
        </p:nvSpPr>
        <p:spPr>
          <a:xfrm flipH="1">
            <a:off x="5334120" y="4419720"/>
            <a:ext cx="2590560" cy="9144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7162920" y="2666880"/>
            <a:ext cx="1752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the planning and devlp stages since 19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609480" y="32004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osest population = 14 m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83808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ucca Mountain is unlikely to ever open as a storage site for nuclear waste largely because the politics were flawed at the star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tate has fought the project for two decades, finding allies in science and environmental quarters, and elsewher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9 billion $ so far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b 2007: Urged to “Stop digging!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t to open possibly in 202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’s the Futur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160" y="1676520"/>
            <a:ext cx="78483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sh/Cheney energy plan called for an increase of nuclear pow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maller, safer plants are being research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European countries are phasing out of nuclear power (Germany in next 25 yea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bout us? 4 new plants in the wor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5707080" y="6019920"/>
            <a:ext cx="36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3 John Wiley and Sons Publis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0" y="0"/>
            <a:ext cx="1752480" cy="142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omic Sans MS"/>
              </a:rPr>
              <a:t>Fig 19.5  Main components of a nuclear react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6" descr="F19_5"/>
          <p:cNvPicPr/>
          <p:nvPr/>
        </p:nvPicPr>
        <p:blipFill>
          <a:blip r:embed="rId2"/>
          <a:stretch/>
        </p:blipFill>
        <p:spPr>
          <a:xfrm>
            <a:off x="1828800" y="100080"/>
            <a:ext cx="7315200" cy="67579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028"/>
          <p:cNvSpPr/>
          <p:nvPr/>
        </p:nvSpPr>
        <p:spPr>
          <a:xfrm>
            <a:off x="2895480" y="5943600"/>
            <a:ext cx="563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b1f39"/>
                </a:solidFill>
                <a:latin typeface="Times New Roman"/>
              </a:rPr>
              <a:t>Water transfers heat energy </a:t>
            </a:r>
            <a:r>
              <a:rPr b="0" lang="en-US" sz="2400" spc="-1" strike="noStrike" u="sng">
                <a:solidFill>
                  <a:srgbClr val="fb1f39"/>
                </a:solidFill>
                <a:uFillTx/>
                <a:latin typeface="Times New Roman"/>
              </a:rPr>
              <a:t>and </a:t>
            </a:r>
            <a:r>
              <a:rPr b="0" lang="en-US" sz="2400" spc="-1" strike="noStrike">
                <a:solidFill>
                  <a:srgbClr val="fb1f39"/>
                </a:solidFill>
                <a:latin typeface="Times New Roman"/>
              </a:rPr>
              <a:t>serves as a moderator to slow neutrons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4"/>
          <p:cNvSpPr/>
          <p:nvPr/>
        </p:nvSpPr>
        <p:spPr>
          <a:xfrm>
            <a:off x="6019920" y="6294600"/>
            <a:ext cx="268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3 John Wiley and Sons Publis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228600" y="0"/>
            <a:ext cx="8534520" cy="90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omic Sans MS"/>
              </a:rPr>
              <a:t>Comparison of a fossil fuel power plant and a nuclear power plant with a boiling water react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6" descr="F19_4"/>
          <p:cNvPicPr/>
          <p:nvPr/>
        </p:nvPicPr>
        <p:blipFill>
          <a:blip r:embed="rId2"/>
          <a:stretch/>
        </p:blipFill>
        <p:spPr>
          <a:xfrm>
            <a:off x="76320" y="533520"/>
            <a:ext cx="91440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use i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pound of uranium (size of a baseball) is equivalent to a million gallons of gas (would fill a 5 story building!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clear subs and aircraft carri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doesn’t contribute to acid rain or air pollution in gene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produces no CO2 so no contribution to global warm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clear Waste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 Level Radioactive was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nt fuel and reprocessing was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uranic: lower grade radioactive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s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1066680" y="1981080"/>
            <a:ext cx="7696440" cy="32767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457200"/>
            <a:ext cx="83059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nt” fuel is still high in ener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out 95% energy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’s in spent fu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ighly radioactive waste to disc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nfissioned uranium (U – 238) which c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e reu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ransuranic waste (beyond uraniu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lend of Pu isotopes and other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manmade radioactive element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heavier than 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s waste can be radioactive for tens of thousands of year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ransuranic waste is also produced during nuclear fuel assembly; during nuclear weapons research, production, and cleanup; and as a result of reprocessing spent nuclear fue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8" descr="Stacked drums of transuranic waste in Panel 1 contain waste with mostly alpha emitting radionuclides.  While some gamma and beta emitters are present, their contribution to the total is small.  "/>
          <p:cNvPicPr/>
          <p:nvPr/>
        </p:nvPicPr>
        <p:blipFill>
          <a:blip r:embed="rId1"/>
          <a:stretch/>
        </p:blipFill>
        <p:spPr>
          <a:xfrm>
            <a:off x="0" y="3429000"/>
            <a:ext cx="4648320" cy="3124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The Waste Isolation Pilot Plant uses a continuous miner to carve disposal rooms out of the Permian Salt Formation, nearly a half mile below the surface."/>
          <p:cNvPicPr/>
          <p:nvPr/>
        </p:nvPicPr>
        <p:blipFill>
          <a:blip r:embed="rId2"/>
          <a:stretch/>
        </p:blipFill>
        <p:spPr>
          <a:xfrm>
            <a:off x="4648320" y="4111560"/>
            <a:ext cx="426708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reeder (fast) Rea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lower grade U 238 (more abunda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 238 decays into Plutonium 239 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expens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use “spent” fuel from thermal reactors almost indefinite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18:58:46Z</dcterms:created>
  <dc:creator>santiago high school</dc:creator>
  <dc:description/>
  <dc:language>en-US</dc:language>
  <cp:lastModifiedBy>Teri Osborne</cp:lastModifiedBy>
  <cp:lastPrinted>2003-01-31T18:58:26Z</cp:lastPrinted>
  <dcterms:modified xsi:type="dcterms:W3CDTF">2012-01-23T07:45:07Z</dcterms:modified>
  <cp:revision>36</cp:revision>
  <dc:subject/>
  <dc:title>Chapter 18 Nuclear Energy</dc:title>
</cp:coreProperties>
</file>